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4B2-036D-4AEE-9D4A-CE85D568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AE-1A86-441F-AFDA-1400D13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1D9-6160-4022-A4FD-9DAD6570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0BB-F76B-4B14-9A61-35437B5C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1046-88BD-4FA8-B34E-B5EBB603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305D-317F-4EEE-904A-3971260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9DE5-8F90-4BD7-BDC2-A4F5EA4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3442-E884-47EE-9B47-CF5626A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BC6-66F1-4E66-962F-2ED1DE87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176-D458-410C-B53B-0322D58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56F-4B85-4DA0-AE84-65E3341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9A2-4B05-4D1E-858E-6A613B9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E25-BA14-4451-B166-62B76F1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D8C2-0BA2-4CD6-B414-CD69B26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C7D-DF5B-4EF6-8EDF-85EA98F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B6CA-5617-4255-8874-94608C3B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3D84-B34A-45A8-9A70-5526E98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9C0-14B5-4B18-881F-46229EB1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4EE-B203-4C2A-8005-88CCF412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B0-2FFD-4004-9D28-21019B2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B32-BF6A-4159-8899-94EC186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F6D-D850-4780-BEF0-56513D87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4A2-C8DB-4C2C-8E97-655FDD4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B58-C608-4A0B-B435-CD233E26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38B-5B38-4380-8C9B-1DCDE6C11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9431-0991-471B-ACC4-101FF5025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Me llamo __________       Clase 9IM</a:t>
            </a:r>
            <a:br>
              <a:rPr sz="3600"/>
            </a:b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La fecha es el 5 de abril del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ropósito # 43 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 the following sentences, write the correct form of SER or ES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Yo _______ un alumno en TR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ú _______ en la clase de españ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lla ______ inteligente y s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sotros _________ atlé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Ustedes __________ b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do SER &amp; ESTAR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67520" y="5695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67480" y="6000840"/>
            <a:ext cx="336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r-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ar- feeling and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aber y Conocer en el present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ing what and whom you kn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th me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both have an irregular YO form in the present te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2"/>
          <p:cNvSpPr/>
          <p:nvPr/>
        </p:nvSpPr>
        <p:spPr>
          <a:xfrm>
            <a:off x="2514600" y="2438280"/>
            <a:ext cx="85572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Tahoma"/>
              </a:rPr>
              <a:t>Sa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90920" y="2514600"/>
            <a:ext cx="15238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705720" y="2573280"/>
            <a:ext cx="2438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m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2860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2057400" y="326088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800" y="2514600"/>
            <a:ext cx="251712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039200" y="2589120"/>
            <a:ext cx="268776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76520" y="310032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391440" y="5257800"/>
            <a:ext cx="2676240" cy="1495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09480" y="0"/>
            <a:ext cx="7848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1" lang="en-US" sz="3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know a fact, to have information about some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4300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Rodolfo y Luisa son estudiantes universi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320" y="4267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día es el viaje a Puerto Ri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981080" y="5486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número de teléfono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5524560" y="3691080"/>
            <a:ext cx="232416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MC900236566[1]"/>
          <p:cNvPicPr/>
          <p:nvPr/>
        </p:nvPicPr>
        <p:blipFill>
          <a:blip r:embed="rId4"/>
          <a:stretch/>
        </p:blipFill>
        <p:spPr>
          <a:xfrm flipH="1">
            <a:off x="7819920" y="3435480"/>
            <a:ext cx="132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4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371600" y="213372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jug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b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90720" y="335268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habl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año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52280" y="4572000"/>
            <a:ext cx="4343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s niños 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multiplic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ien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914400" y="228600"/>
            <a:ext cx="73152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900" spc="-1" strike="noStrike">
                <a:solidFill>
                  <a:srgbClr val="cc0099"/>
                </a:solidFill>
                <a:latin typeface="Times New Roman"/>
              </a:rPr>
              <a:t>infinitive*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know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to do something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6320" y="5989680"/>
            <a:ext cx="4419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n infinitive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5840"/>
            <a:ext cx="800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often followed by a </a:t>
            </a:r>
            <a:r>
              <a:rPr b="0" lang="en-US" sz="3900" spc="-1" strike="noStrike">
                <a:solidFill>
                  <a:srgbClr val="008000"/>
                </a:solidFill>
                <a:latin typeface="Times New Roman"/>
              </a:rPr>
              <a:t>question wor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09480" y="147168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quié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 Antonio Bander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90920" y="3886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dón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tá Waldo y Wenda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533412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cuánd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ale el vuelo para Chil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632448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 question word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4419720" y="1974960"/>
            <a:ext cx="2361960" cy="18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43352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7086600" y="5219640"/>
            <a:ext cx="167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09480" y="0"/>
            <a:ext cx="79250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also used when we know something from memory (de memoria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22320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uela Marta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Himno Nacional Mexic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19096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3809880" y="3352680"/>
            <a:ext cx="4648320" cy="1603440"/>
          </a:xfrm>
          <a:prstGeom prst="wedgeEllipseCallout">
            <a:avLst>
              <a:gd name="adj1" fmla="val -60930"/>
              <a:gd name="adj2" fmla="val 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¡Mexicanos, al grito de guerra . . .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3886200" y="3429000"/>
            <a:ext cx="380520" cy="523440"/>
            <a:chOff x="3886200" y="3429000"/>
            <a:chExt cx="380520" cy="523440"/>
          </a:xfrm>
        </p:grpSpPr>
        <p:sp>
          <p:nvSpPr>
            <p:cNvPr id="141" name="AutoShape 7"/>
            <p:cNvSpPr/>
            <p:nvPr/>
          </p:nvSpPr>
          <p:spPr>
            <a:xfrm>
              <a:off x="4076640" y="3429000"/>
              <a:ext cx="190080" cy="149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19080 h 149400"/>
                <a:gd name="textAreaBottom" fmla="*/ 130320 h 1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Oval 8"/>
            <p:cNvSpPr/>
            <p:nvPr/>
          </p:nvSpPr>
          <p:spPr>
            <a:xfrm>
              <a:off x="3886200" y="3803040"/>
              <a:ext cx="190440" cy="14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076640" y="3484800"/>
              <a:ext cx="0" cy="39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5867280" y="4648320"/>
            <a:ext cx="381240" cy="514080"/>
            <a:chOff x="5867280" y="4648320"/>
            <a:chExt cx="381240" cy="514080"/>
          </a:xfrm>
        </p:grpSpPr>
        <p:sp>
          <p:nvSpPr>
            <p:cNvPr id="145" name="AutoShape 11"/>
            <p:cNvSpPr/>
            <p:nvPr/>
          </p:nvSpPr>
          <p:spPr>
            <a:xfrm>
              <a:off x="6058080" y="4648320"/>
              <a:ext cx="190440" cy="146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19080 h 146880"/>
                <a:gd name="textAreaBottom" fmla="*/ 12780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Oval 12"/>
            <p:cNvSpPr/>
            <p:nvPr/>
          </p:nvSpPr>
          <p:spPr>
            <a:xfrm>
              <a:off x="5867280" y="5015520"/>
              <a:ext cx="190800" cy="14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6058080" y="4703040"/>
              <a:ext cx="0" cy="391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7848720" y="3352680"/>
            <a:ext cx="609480" cy="590400"/>
            <a:chOff x="7848720" y="3352680"/>
            <a:chExt cx="609480" cy="590400"/>
          </a:xfrm>
        </p:grpSpPr>
        <p:sp>
          <p:nvSpPr>
            <p:cNvPr id="149" name="Oval 15"/>
            <p:cNvSpPr/>
            <p:nvPr/>
          </p:nvSpPr>
          <p:spPr>
            <a:xfrm>
              <a:off x="7848720" y="3785760"/>
              <a:ext cx="22140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>
              <a:off x="8070120" y="345096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7"/>
            <p:cNvSpPr/>
            <p:nvPr/>
          </p:nvSpPr>
          <p:spPr>
            <a:xfrm>
              <a:off x="8236440" y="3687480"/>
              <a:ext cx="22176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8458200" y="335268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V="1">
              <a:off x="8070120" y="3352680"/>
              <a:ext cx="387720" cy="10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4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ribe 10 oraciones con el verbo SAB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o kno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 for each condtion taught tod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0:52:38Z</dcterms:created>
  <dc:creator>Helen Zumaeta</dc:creator>
  <dc:description/>
  <dc:language>en-US</dc:language>
  <cp:lastModifiedBy>Helen Zumaeta</cp:lastModifiedBy>
  <cp:lastPrinted>2013-04-03T13:57:45Z</cp:lastPrinted>
  <dcterms:modified xsi:type="dcterms:W3CDTF">2013-04-04T18:09:51Z</dcterms:modified>
  <cp:revision>18</cp:revision>
  <dc:subject/>
  <dc:title>Me llamo __________          Clase 7IM La fecha es el 9 de noviembre del 2011</dc:title>
</cp:coreProperties>
</file>